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6A5-614F-4EB8-BE3A-52CA4CED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AA2-F655-4A9C-B19C-506AEAE6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12E-C162-4CDE-A7FA-DFA5A0EA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D74-B342-4398-9592-6B162235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21F1-DDB4-46CD-9713-82D0C70E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01C0-25B1-44D7-9F02-F7709660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E5A5-7F0D-466A-9C11-BDFA8E2B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8E63-A427-497A-B9AE-C11B3662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DE88-5F60-4877-92D1-BB5F4B67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EFDE-B3F5-4ABC-9B8C-5259349C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877A-1178-46E3-9EAB-DCA20FBA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A47-4202-4E15-8151-A96BE235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8EC0-49EE-41EE-B8F9-70DBADFB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0993-93A6-4622-85B1-088C0D75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7305-2EB3-4436-8092-B2792A33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1AA2-1BAA-41C4-A788-37E61616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72AA-21BA-4ECF-841E-33542E9E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E59-5739-43F4-8A4A-59D8C772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4F9-F68E-44D5-B0A0-283C1514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79A-14F7-48C2-93CC-4AE8428C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C91-8EDC-499D-AB37-EB9C74FE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5FC8-67CE-4827-9CDB-12C6587B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AB9-59D2-4A04-A43C-BB94E8B8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F4E-6265-45F0-A3A2-40FE825D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849A-5209-4654-A48A-2BD502AD5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AA9F-3A74-4A89-AFBE-7DF40C7FD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PSC 203 Tutori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ction: T3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days and Wednesd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:00 PM – 12:50 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m: MS 236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aching Assista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.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hi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D student, Dept. of Computer Sc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: mfzibran@ucalgary.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: www.ucalgary.ca/~mf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T Hour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ednesday, 4:00 PM- 6:0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oom: MS 23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t Dates 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 Lab Quizz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eb: MS Excel Spreadshe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rch: MS Access Data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rch: Problem Sol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pril: Design Ski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 Take Home Assign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ment 1: Out: Jan 21 2009, Due: Feb 23 2009, 11:59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ment 2: Out: Mar 09 2009, Due: April 03 2009, 11:59P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 Term Project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done in the wik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: Mar 09 2009, Oral Presentation: April 06 2009 to April 16 2009, Wiki Part Due: April 17 2009, 11:59P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t Link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Wik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470160">
              <a:spcBef>
                <a:spcPts val="499"/>
              </a:spcBef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iki.ucalgary.ca/page/Courses/Computer_Science/CPSC_203/CPSC_203_Templ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utorial-22 TA wik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iki.ucalgary.ca/page/Courses/Computer_Science/CPSC_203/CPSC_203_Template/CPSC203_Template_People/Fahim_Zibr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3:47:13Z</dcterms:created>
  <dc:creator>Fahim</dc:creator>
  <dc:description/>
  <dc:language>en-US</dc:language>
  <cp:lastModifiedBy>Fahim Zibran</cp:lastModifiedBy>
  <dcterms:modified xsi:type="dcterms:W3CDTF">2009-01-19T04:08:26Z</dcterms:modified>
  <cp:revision>16</cp:revision>
  <dc:subject/>
  <dc:title>CPSC 203 Tutorial Section: T32</dc:title>
</cp:coreProperties>
</file>